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7FED-2278-4D44-92F2-215906250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E032-24AB-4C25-BDAC-90E4F46CF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9A50-9FB5-4788-A3A8-983F8D9EB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91F4-9736-4A75-A2D4-B781285C9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8DC4-4B8B-4D09-A4DF-4272801F1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DF8E-2981-49FB-8A4E-D39CF8768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1968-1D3E-425A-9297-141B6042F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8AF0-CC8F-4E15-869E-D9B6CB221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158B-8519-4C2A-998E-553663817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57B2-066C-436A-B7C9-56CCBBAFD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AA5D-D6D9-496E-ADEE-6BA4D8061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F1E5-9C6D-4BC0-8532-621A38041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7957F-2AD3-4D47-BAE4-71D64FF82E9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هارات الاتصال الشفو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الاتصال الشفوي هو الاتصال الذي يتم بين المرسِل والمستقبِل بوساطة اللغة المنطوقة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وينبع من هذا الاتصال قضيتان الأولى قضية استقبال اللغة والثانية قضية استعمال اللغ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أولاً- : قضية استقبال اللغة الشفوية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ليس هناك استقبال واحد للغة الشفوية لأنه ليس هناك مستقبل واحد . وهناك أشكال كثيرة لاستقبال اللغة الشفوية تختلف بحسب المكان والرسالة وموقف المستقبِل وهيبة المرسل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أ - استقبال اللغة الشفوية بحسب المكان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يحدد المكان طبيعة استقبال اللغة الشفوية لدى المستقبل . فقد يكون المكان قاعة درس فيفرض على المستقبل الطالب أن يجلس صامتاً . فلو انتقل إلى المسجد فلا كلام أثناء صلاة الجماعة ، ولو انتقل إلى الاستراحة لابد له أو الزيارة فلا سكوت هناك لأن طبيعة المكان تتطلب ذلك 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هارات الاتصال الشفو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ب - استقبال اللغة الشفوية بحسب موقف المستقبِل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ليس للمستقبل موقف واحد أثناء تلقيه الرسالة ؛ فقد يكون خائفاً فتنخفض نسبة فهمه للرسالة ، ومن ثم يضعف تفاعله معها ، وقد يكون مرهقاً وقد يكون رئيساً في العمل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ج - استقبال اللغة الشفوية بحسب موضوع الرسالة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يختلف استقبال اللغة الشفوية أحياناً بحسب الرسالة . فقد تكون ذات طابع ديني أرسلها رجل دين فإن المستقبل سيستقبلها بمزيد من الوعي والإدراك والحرص. وإذا كانت الرسالة ذات طابع شعاري سيكون تفاعل المستقبل معها أقل .  وكل يوم نحن نستقبل مئات الرسائل في التربية والمعرفة العلمية والاجتماعية والأخلاقية، وغيرها، ويختلف استقبالنا لكل رسالة عن الأخرى 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هارات الاتصال الشفو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د - استقبال اللغة الشفوية بحسب هيبة المرسِل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ترتفع درجة الاستقبال إذا كان المرسِل ذا هيبة لدى الناس . فرجال الدين محترمون يثق الناس بعلمهم وتقواهم فيأخذون عنهم سلوكهم قدوة وينفعلون بأحاديثهم . وهناك رجال تربية واقتصاد ومجتمع وفن وعلم وصحافة يتمتعون بهيبة كبيرة لدى الجمهور وهم يستطيعون أن يكونوا أكثر أثراً من غيرهم في الجمهور نتيجة لهذه الهيبة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خلاصة : إن استقبال اللغة الشفوية يرجع من حيث القوة والضعف إلى عوامل المكان والموقف والرسالة والهيبة أو إليها جميعا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ثانياً - : مهارات استعمال اللغة الشفو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قالت العرب : لسانك حصانك إن صنته صانك . من تأتي خطورة اللغة الشفوية في قضايا الاتصال . فقد يقود استعمال اللغة الشفوية مستعملها إلـى السجن ، فينال العقاب ، وقد ترفع من شأنه فيُحمد في مجتمعه وأهله . فالناس يتفاوتون في قدراتهم على استعمال اللغة الشفوية . وهذا التفاوت بين الناس هو سبب التباين في التأثير في المستقبل ، وسبب من أسباب تفاعله أو عدم تفاعله مع الرسالة 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تابع مهارات استعمال اللغة الشفو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أ- استعمال الألفا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ينتقي المرسل الألفاظ التي يرغب في استعمالها في قناة الاتصال لاعتقاده بأنها تلائم الهدف وتؤثر في المستقبل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والمرسل عادة ما ينتقي ألفاظاً دون أخرى لأنه يراعي الأشياء التالية في أثناء الاستقبال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ألفاظ المقبولة اجتماعياً : فلا يستخدم ألفاظاً مثلاً أسماء بعض الثياب لأن هذا الاستعمال لا يقره مجتمع المستقبلين للغة الشفوية العربية ، ومقابل ذلك نراه يستعمل الألفاظ الدالة على الأخلاق والدين والفضائل لأنه يعرف أنها مقبولة ولها وقع إيجابي على المستقبل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تابع مهارات استعمال اللغة الشفو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523800" indent="-5238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ألفاظ المقبولة مهنياً : يتفق أصحاب المهن المختلفة على ألفاظ تدل على معان محددة ، فإذا أرسل أحدهم رسالة إلى آخر يلتزم بالألفاظ المتعارف عليها في هذا الحقل . ففي الحقل الدبلوماسي تختلف الكلمات التالية فيما بينها ويجب عدم واحدة مكان الأخرى : استنكر ، شجب ، احتج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ألفاظ المقبولة أخلاقياً : لكل مجتمع أخلاقه ومفرداته المقبولة أخلاقياً ، وأي استخدام لألفاظ غيرها سيبدو المستخدم خارجاً على الأعراف الأخلاقية . مثل الشتائم البذيئة والألفاظ غير المؤدبة والنابية . ومقابل ذلك فإن استخدام الألفاظ التي يوافق عليها العرف العام في المجتمع سـيكون مقبولاً من كل أفراده . وسيبدو مرسلها مقبولاً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تابع مهارات استعمال اللغة الشفو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ب- : استعمال الأساليب : الرسالة ليست ألفاظاً فقط بل هي جمل وتراكيب تصنع أساليب مختلفة . وتهدف الأساليب إلى التأثير في المستقبل انطلاقاً من تنوعها وأشكال صياغتها .  وتختلف الأساليب بحسب الظرف والمهنة والشخص المرسل وثقافته ... فهناك أسلوب دبلوماسي أساسه اللباقة والدقة والاحترام واللطف والحرص على انتقاء الألفاظ المناسبة ، وهناك أسلوب أصحاب المهن من حدادين ونجارين وسائقين وحلاقين ، وهناك أساليب التكريم والتبجيل ( طويل العمر ، صاحب السعادة ، حضرة الأستاذ ) ، وأساليب الدعاء للإنسان أو الدعاء عليه : بارك الله بك ، رحم الله والديك ، بالرفاه والبنين ، عظم الله أجرك ، لابارك الله بك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مهم في ذلك تقيد المرسل بالأسلوب الملائم للتأثير في المستقبل ، وعدم الخروج على المتداول من هذه الأساليب في الثقافة العربية لئلا ينفر المستقبِل من المرسل ، ويبتعد عن التفاعل مع رسالته .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تابع مهارات استعمال اللغة الشفو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ج- : استعمال الدلالة : هناك دلالة مباشرة للألفاظ والتراكيب ، وهذه الدلالة مقبولة لأنها الأصل في اتصال المرسل بالمستقبل . ولكن المرسل قد يستخدم دلالات أخرى ذات طابع إيحائي ، مثل : أن يشيح بوجهه للدلالة على النفور ، وأن يفرك يديه للدلالة على التوتر . وقد يستخدم قرائن لفظية معينة للدلالة على أمر ما مثل : إن الطيور على أشكالها تقع إذا أراد المطابقة بين أصدقاء السوء . وما شاء الله للدلالة على التعجب من شيء قابلناه ، والحمد لله لنعبر عن شكرنا لله على نعمه علينا .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4T11:34:15Z</dcterms:created>
  <dc:creator>CSS</dc:creator>
  <dc:description/>
  <dc:language>en-US</dc:language>
  <cp:lastModifiedBy>CSS</cp:lastModifiedBy>
  <dcterms:modified xsi:type="dcterms:W3CDTF">2005-10-14T11:42:07Z</dcterms:modified>
  <cp:revision>2</cp:revision>
  <dc:subject/>
  <dc:title>مهارات الاتصال الشفوي</dc:title>
</cp:coreProperties>
</file>